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BE0-DD11-455F-B9DE-4745159F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49A-E657-4F1B-A3BA-1FAF7AF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926-D4CC-4496-B1B5-40201078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AD8-D380-437E-BB40-DE9B28BC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655B-2D71-41B7-A734-EAEAB9C9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1D8D-3C62-41EF-9337-193369C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0414-3241-433C-ACBC-AD955B05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588D-E5AD-45C5-BEC5-B565E1E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BFDC-57B7-4DD8-8038-95262A88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45D0-8E7D-4F36-99C2-07CE4B48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E8AF-22F8-42B6-A793-B46FB2E8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FBF-AB81-4462-99DC-23C8F77C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E65-55FF-4B38-9CDA-10F7D786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51DE-086F-4125-81AD-8F17B31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D014-5662-4D62-9C0A-35CB9AB8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F63E-3303-4E2D-96B8-BF35EB20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F9DE-6A63-4016-A95A-6B7640C8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949-15B9-4D2D-A1DD-56EA4459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4F9-9B2D-49AF-AD56-94C8A32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204-C7A6-41D0-AC2E-F84449A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903-5B19-4148-A099-7278DED8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B0A-FE2D-46D1-A23A-CB4877EE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2C8-D3AC-45AB-82E4-448E38E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9FA-D292-4709-8C67-61BD635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EA8E8-D44A-4FFB-9A2F-7BF0849A0A5B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F441B-45EC-494E-A6FC-349F78FBAA6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D11F5-B55D-4B35-8CA6-4C7CF63F864A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27896-0572-44C6-911C-0749BDD234F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78920" cy="2060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LOFAR-USG-ICD-00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V 2.00.0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K.R.Anders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niversiteit van Amsterda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9.9.201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far image da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minal observ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248 subband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 image per subb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al for a hierarchical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ther LOFAR observation modes work per subba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ffort toward parallel hierachical structure across LOFAR observation typ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urrent ICD Sky Image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3" descr="SkyImDiag4.png"/>
          <p:cNvPicPr/>
          <p:nvPr/>
        </p:nvPicPr>
        <p:blipFill>
          <a:blip r:embed="rId3"/>
          <a:stretch/>
        </p:blipFill>
        <p:spPr>
          <a:xfrm>
            <a:off x="0" y="278604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mage Grou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imgroup.png"/>
          <p:cNvPicPr/>
          <p:nvPr/>
        </p:nvPicPr>
        <p:blipFill>
          <a:blip r:embed="rId3"/>
          <a:stretch/>
        </p:blipFill>
        <p:spPr>
          <a:xfrm>
            <a:off x="1263600" y="2489040"/>
            <a:ext cx="6616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urrently, Standard Imaging Pipeline (sip) works on Measurement Set format da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nders one casa image per subba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-on, Python module (skim.py), converts to HDF5 LOFAR ICD format, w/ PyTab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tually, the LOFAR  DAL (Data Access Library) will do the work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ython DAL wrapper (pydal) will provide scriptable interface for read/write of LOFAR data produc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3" descr="screen-capture-4.png"/>
          <p:cNvPicPr/>
          <p:nvPr/>
        </p:nvPicPr>
        <p:blipFill>
          <a:blip r:embed="rId3"/>
          <a:srcRect l="-26213" t="0" r="-26213" b="0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sues of pipeline conc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rite spe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ytables very heavy weigh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t needed for data writing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5.py a light weight option at the python lay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sues of data interface conc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 access spe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licing, extracting,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6:56:43Z</dcterms:created>
  <dc:creator>Kenneth Anderson</dc:creator>
  <dc:description/>
  <dc:language>en-US</dc:language>
  <cp:lastModifiedBy>Anastasia Alexov</cp:lastModifiedBy>
  <dcterms:modified xsi:type="dcterms:W3CDTF">2010-09-14T08:01:22Z</dcterms:modified>
  <cp:revision>9</cp:revision>
  <dc:subject/>
  <dc:title>Lofar Sky Image Cubes</dc:title>
</cp:coreProperties>
</file>